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4A57-44C2-47C1-8B01-050A35CB5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EFA8-775D-4E24-ABC6-6BBE66B6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E553-0355-486C-8A81-1456987C6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264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2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264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2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D978-D47A-4BF5-AF5B-46AFE7E77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70B25-BADD-4E48-8BF5-D19BE4518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C4A6-EB10-4BB1-BED0-2F7DAEEB5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DC48-E7BF-4EF1-9323-FD848AFF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16103-8E6E-403E-85CB-1C36467B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1BCE-9C0D-4A15-A40B-8B2DC7E9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160" y="867960"/>
            <a:ext cx="79246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CCF5-644B-40F9-B648-E63E5145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AC21B-1D71-40D2-AF46-A593E5F8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77E8-1482-4BAA-850E-0D6DF12B5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7F49D-C522-4A66-AC37-D8DB40B5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7F04-30A3-4E8B-8644-38C3795A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49F9-36DB-4611-9143-3A60F219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A4BD-1A2B-4A76-BB4B-BFBFD80A0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264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92480" y="220968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16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264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92480" y="4200120"/>
            <a:ext cx="255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12C6-436D-4C4A-8DC3-03B4BE9E1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F98D-64CA-4616-BC93-A6EAA47E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11CB-4E40-49D7-84A4-FAAC679A0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B0B5-8CA6-44EB-8971-24953D95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160" y="867960"/>
            <a:ext cx="792468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2760-1503-45C8-B9D3-C3412B17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D32C-9F6F-4732-B5F0-3B72F612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3960" y="420012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0167-89FF-4401-AFBC-B64B9CA2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3960" y="2209680"/>
            <a:ext cx="386712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4200120"/>
            <a:ext cx="7924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27D4-5EAD-4D22-8F7A-F9AA8370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cc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99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9c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DF85-A27B-49EF-A91D-D19289ABBAB4}" type="slidenum">
              <a:rPr b="0" lang="en-US" sz="1000" spc="-1" strike="noStrike">
                <a:solidFill>
                  <a:srgbClr val="fff9c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00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99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99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99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1C4B-0FA7-4326-B2A4-9D3F4EABB60F}" type="slidenum">
              <a:rPr b="0" lang="en-US" sz="1000" spc="-1" strike="noStrike">
                <a:solidFill>
                  <a:srgbClr val="cc99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99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99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cc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99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00"/>
                </a:solidFill>
                <a:latin typeface="Arial Black"/>
              </a:rPr>
              <a:t>Inquiry Basics</a:t>
            </a:r>
            <a:endParaRPr b="0" lang="en-US" sz="48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3352680"/>
            <a:ext cx="6140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Part Two: How to ‘do’ it…..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Essential Questions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cc9900"/>
                </a:solidFill>
                <a:latin typeface="Arial"/>
              </a:rPr>
              <a:t>These are the most difficult part of the pre-planning process and involve a lot of discussion when your whole-school planning.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cc9900"/>
                </a:solidFill>
                <a:latin typeface="Arial"/>
              </a:rPr>
              <a:t>They need to be: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cc9900"/>
                </a:solidFill>
                <a:latin typeface="Arial"/>
              </a:rPr>
              <a:t>Broad enough for all students to gain an understanding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cc9900"/>
                </a:solidFill>
                <a:latin typeface="Arial"/>
              </a:rPr>
              <a:t>Open ended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cc9900"/>
                </a:solidFill>
                <a:latin typeface="Arial"/>
              </a:rPr>
              <a:t>Encourage students to think deeply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9c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9cf"/>
                </a:solidFill>
                <a:latin typeface="Arial"/>
              </a:rPr>
              <a:t>Discuss with a partner what your essential question or questions might be….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Planning Begins….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Comic Sans MS"/>
              </a:rPr>
              <a:t>Using this information, you now need to go to the documents to help you plan for each curriculum area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Comic Sans MS"/>
              </a:rPr>
              <a:t>Then select an Inquiry planning format and integrate your sessions on this so that you know how they all fit together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Comic Sans MS"/>
              </a:rPr>
              <a:t>Be prepared to ask other teachers on your staff when you are unsure – they will always have ideas to help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Comic Sans MS"/>
              </a:rPr>
              <a:t>I am happy to work with you on this when I am working in your schools, just let your Principal know if you want to work on this further.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Evaluation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9900"/>
                </a:solidFill>
                <a:uFillTx/>
                <a:latin typeface="Arial"/>
              </a:rPr>
              <a:t>Do you know the following: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Why Inquiry is so important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Steps in the Inquiry Process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How to pre-plan for an Inquiry unit 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How context, knowledge, skills, strategies, key competencies and values ‘fits’ into Inquiries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How to start planning for an Inquiry unit.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From last session….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Comic Sans MS"/>
              </a:rPr>
              <a:t>Work with your colleagues to discuss and decide to try or change one thing within your next Inquiry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Comic Sans MS"/>
              </a:rPr>
              <a:t>Feed back again in a fortnight about what you are going to try or change.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Comic Sans MS"/>
              </a:rPr>
              <a:t>Keep a record of the changes e.g. photos, blog, diary etc (put it on our wikispace for everyone to learn from).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Arial"/>
              </a:rPr>
              <a:t>Discuss what you will try or change….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Inquiry Choice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cc9900"/>
                </a:solidFill>
                <a:uFillTx/>
                <a:latin typeface="Comic Sans MS"/>
              </a:rPr>
              <a:t>Things to consider: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wide enough to explore significant understandings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does it provide first hand, direct experiences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relevance to students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is the inquiry choice valuable in the world beyond school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engaging and interesting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linked to overall school plan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can provide a depth of understanding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can be adequately resourced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allow for critical reflection and action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is it inclusive of all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suitably challenging for students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can it be dealt with effectively in the timeframe given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have we got the expertise (or can we get it)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Pre - Planning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8153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This should include the following: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Context – what you are focusing on..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Big Understandings/Ideas – core knowledge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Strategies and skills – that you’ll focus on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Key Competencies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Values and attitudes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Comic Sans MS"/>
              </a:rPr>
              <a:t>Essential question or questions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Choice of Inquiries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305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The decisions on inquiry choice should be shared between the students, staff and parents (surveyed in November as part of the school self review process is a great way to find out interests and perceived needs)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            </a:t>
            </a:r>
            <a:r>
              <a:rPr b="1" lang="en-NZ" sz="2000" spc="-1" strike="noStrike">
                <a:solidFill>
                  <a:srgbClr val="cc9900"/>
                </a:solidFill>
                <a:latin typeface="Comic Sans MS"/>
              </a:rPr>
              <a:t>Always covers a mix of the following within each year: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      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     </a:t>
            </a:r>
            <a:r>
              <a:rPr b="1" lang="en-NZ" sz="2000" spc="-1" strike="noStrike">
                <a:solidFill>
                  <a:srgbClr val="cc9900"/>
                </a:solidFill>
                <a:latin typeface="Comic Sans MS"/>
              </a:rPr>
              <a:t>- </a:t>
            </a:r>
            <a:r>
              <a:rPr b="1" lang="en-NZ" sz="2000" spc="-1" strike="noStrike">
                <a:solidFill>
                  <a:srgbClr val="996600"/>
                </a:solidFill>
                <a:latin typeface="Comic Sans MS"/>
              </a:rPr>
              <a:t>Topics</a:t>
            </a: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 – Content based, knowledge driven </a:t>
            </a:r>
            <a:r>
              <a:rPr b="0" i="1" lang="en-NZ" sz="2000" spc="-1" strike="noStrike">
                <a:solidFill>
                  <a:srgbClr val="cc9900"/>
                </a:solidFill>
                <a:latin typeface="Comic Sans MS"/>
              </a:rPr>
              <a:t>e.g. Medieval Times, Frogs, Vehicles etc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       </a:t>
            </a: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- </a:t>
            </a:r>
            <a:r>
              <a:rPr b="1" lang="en-NZ" sz="2000" spc="-1" strike="noStrike">
                <a:solidFill>
                  <a:srgbClr val="996600"/>
                </a:solidFill>
                <a:latin typeface="Comic Sans MS"/>
              </a:rPr>
              <a:t>Concept</a:t>
            </a:r>
            <a:r>
              <a:rPr b="1" lang="en-NZ" sz="2000" spc="-1" strike="noStrike">
                <a:solidFill>
                  <a:srgbClr val="cc9900"/>
                </a:solidFill>
                <a:latin typeface="Comic Sans MS"/>
              </a:rPr>
              <a:t> </a:t>
            </a: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– more abstract, multi-displinary</a:t>
            </a:r>
            <a:r>
              <a:rPr b="0" i="1" lang="en-NZ" sz="2000" spc="-1" strike="noStrike">
                <a:solidFill>
                  <a:srgbClr val="cc9900"/>
                </a:solidFill>
                <a:latin typeface="Comic Sans MS"/>
              </a:rPr>
              <a:t> e.g. structures, conflict, cycles, change, systems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>
                <a:solidFill>
                  <a:srgbClr val="cc9900"/>
                </a:solidFill>
                <a:latin typeface="Comic Sans MS"/>
              </a:rPr>
              <a:t>       </a:t>
            </a:r>
            <a:r>
              <a:rPr b="0" i="1" lang="en-NZ" sz="2000" spc="-1" strike="noStrike">
                <a:solidFill>
                  <a:srgbClr val="cc9900"/>
                </a:solidFill>
                <a:latin typeface="Comic Sans MS"/>
              </a:rPr>
              <a:t>- </a:t>
            </a:r>
            <a:r>
              <a:rPr b="1" lang="en-NZ" sz="2000" spc="-1" strike="noStrike">
                <a:solidFill>
                  <a:srgbClr val="996600"/>
                </a:solidFill>
                <a:latin typeface="Comic Sans MS"/>
              </a:rPr>
              <a:t>Problem</a:t>
            </a: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 – more topical, real issues </a:t>
            </a:r>
            <a:r>
              <a:rPr b="0" i="1" lang="en-NZ" sz="2000" spc="-1" strike="noStrike">
                <a:solidFill>
                  <a:srgbClr val="cc9900"/>
                </a:solidFill>
                <a:latin typeface="Comic Sans MS"/>
              </a:rPr>
              <a:t>e.g. pollution in our stream, gangs – why people need to belong, rubbish – what to do with it?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99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996600"/>
                </a:solidFill>
                <a:latin typeface="Comic Sans MS"/>
              </a:rPr>
              <a:t>Learning to Learn</a:t>
            </a:r>
            <a:r>
              <a:rPr b="1" lang="en-NZ" sz="2000" spc="-1" strike="noStrike">
                <a:solidFill>
                  <a:srgbClr val="cc9900"/>
                </a:solidFill>
                <a:latin typeface="Comic Sans MS"/>
              </a:rPr>
              <a:t> Unit</a:t>
            </a:r>
            <a:r>
              <a:rPr b="0" lang="en-NZ" sz="2000" spc="-1" strike="noStrike">
                <a:solidFill>
                  <a:srgbClr val="cc9900"/>
                </a:solidFill>
                <a:latin typeface="Comic Sans MS"/>
              </a:rPr>
              <a:t> – always the first four to six weeks of each year.   Odd Year – Personal, Even Year - Team</a:t>
            </a: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Forming Understandings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590200" y="2140200"/>
            <a:ext cx="3810240" cy="4025880"/>
            <a:chOff x="2590200" y="2140200"/>
            <a:chExt cx="3810240" cy="4025880"/>
          </a:xfrm>
        </p:grpSpPr>
        <p:sp>
          <p:nvSpPr>
            <p:cNvPr id="94" name="_s11270"/>
            <p:cNvSpPr/>
            <p:nvPr/>
          </p:nvSpPr>
          <p:spPr>
            <a:xfrm flipV="1">
              <a:off x="4019760" y="2139840"/>
              <a:ext cx="951840" cy="1005480"/>
            </a:xfrm>
            <a:custGeom>
              <a:avLst/>
              <a:gdLst>
                <a:gd name="textAreaLeft" fmla="*/ 341640 w 951840"/>
                <a:gd name="textAreaRight" fmla="*/ 610200 w 951840"/>
                <a:gd name="textAreaTop" fmla="*/ 360720 h 1005480"/>
                <a:gd name="textAreaBottom" fmla="*/ 644760 h 100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e9e3b7"/>
            </a:solidFill>
            <a:ln w="468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500" spc="-1" strike="noStrike">
                  <a:solidFill>
                    <a:srgbClr val="cc9900"/>
                  </a:solidFill>
                  <a:latin typeface="Arial"/>
                </a:rPr>
                <a:t>Theory</a:t>
              </a:r>
              <a:endParaRPr b="0" lang="en-US" sz="1500" spc="-1" strike="noStrike">
                <a:solidFill>
                  <a:srgbClr val="cc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500" spc="-1" strike="noStrike">
                  <a:solidFill>
                    <a:srgbClr val="cc9900"/>
                  </a:solidFill>
                  <a:latin typeface="Arial"/>
                </a:rPr>
                <a:t>Building</a:t>
              </a:r>
              <a:endParaRPr b="0" lang="en-US" sz="1500" spc="-1" strike="noStrike">
                <a:solidFill>
                  <a:srgbClr val="cc9900"/>
                </a:solidFill>
                <a:latin typeface="Arial"/>
              </a:endParaRPr>
            </a:p>
          </p:txBody>
        </p:sp>
        <p:sp>
          <p:nvSpPr>
            <p:cNvPr id="95" name="_s11271"/>
            <p:cNvSpPr/>
            <p:nvPr/>
          </p:nvSpPr>
          <p:spPr>
            <a:xfrm flipV="1">
              <a:off x="3542400" y="3145320"/>
              <a:ext cx="1906200" cy="1007640"/>
            </a:xfrm>
            <a:custGeom>
              <a:avLst/>
              <a:gdLst>
                <a:gd name="textAreaLeft" fmla="*/ 419040 w 1906200"/>
                <a:gd name="textAreaRight" fmla="*/ 1487160 w 1906200"/>
                <a:gd name="textAreaTop" fmla="*/ 221400 h 1007640"/>
                <a:gd name="textAreaBottom" fmla="*/ 78624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e9e3b7"/>
            </a:solidFill>
            <a:ln w="468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500" spc="-1" strike="noStrike">
                  <a:solidFill>
                    <a:srgbClr val="cc9900"/>
                  </a:solidFill>
                  <a:latin typeface="Arial"/>
                </a:rPr>
                <a:t>Generalisations</a:t>
              </a:r>
              <a:endParaRPr b="0" lang="en-US" sz="1500" spc="-1" strike="noStrike">
                <a:solidFill>
                  <a:srgbClr val="cc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500" spc="-1" strike="noStrike">
                  <a:solidFill>
                    <a:srgbClr val="cc9900"/>
                  </a:solidFill>
                  <a:latin typeface="Arial"/>
                </a:rPr>
                <a:t>-expressions of the relationship</a:t>
              </a:r>
              <a:endParaRPr b="0" lang="en-US" sz="1500" spc="-1" strike="noStrike">
                <a:solidFill>
                  <a:srgbClr val="cc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500" spc="-1" strike="noStrike">
                  <a:solidFill>
                    <a:srgbClr val="cc9900"/>
                  </a:solidFill>
                  <a:latin typeface="Arial"/>
                </a:rPr>
                <a:t>Between two or more concepts</a:t>
              </a:r>
              <a:endParaRPr b="0" lang="en-US" sz="1500" spc="-1" strike="noStrike">
                <a:solidFill>
                  <a:srgbClr val="cc9900"/>
                </a:solidFill>
                <a:latin typeface="Arial"/>
              </a:endParaRPr>
            </a:p>
          </p:txBody>
        </p:sp>
        <p:sp>
          <p:nvSpPr>
            <p:cNvPr id="96" name="_s11272"/>
            <p:cNvSpPr/>
            <p:nvPr/>
          </p:nvSpPr>
          <p:spPr>
            <a:xfrm flipV="1">
              <a:off x="3067560" y="4152960"/>
              <a:ext cx="2856240" cy="1004760"/>
            </a:xfrm>
            <a:custGeom>
              <a:avLst/>
              <a:gdLst>
                <a:gd name="textAreaLeft" fmla="*/ 495720 w 2856240"/>
                <a:gd name="textAreaRight" fmla="*/ 2360520 w 2856240"/>
                <a:gd name="textAreaTop" fmla="*/ 174240 h 1004760"/>
                <a:gd name="textAreaBottom" fmla="*/ 830520 h 10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e9e3b7"/>
            </a:solidFill>
            <a:ln w="468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500" spc="-1" strike="noStrike">
                  <a:solidFill>
                    <a:srgbClr val="cc9900"/>
                  </a:solidFill>
                  <a:latin typeface="Arial"/>
                </a:rPr>
                <a:t>Concepts</a:t>
              </a:r>
              <a:endParaRPr b="0" lang="en-US" sz="1500" spc="-1" strike="noStrike">
                <a:solidFill>
                  <a:srgbClr val="cc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500" spc="-1" strike="noStrike">
                  <a:solidFill>
                    <a:srgbClr val="cc9900"/>
                  </a:solidFill>
                  <a:latin typeface="Arial"/>
                </a:rPr>
                <a:t>-classified/categorised groups of related facts</a:t>
              </a:r>
              <a:endParaRPr b="0" lang="en-US" sz="1500" spc="-1" strike="noStrike">
                <a:solidFill>
                  <a:srgbClr val="cc9900"/>
                </a:solidFill>
                <a:latin typeface="Arial"/>
              </a:endParaRPr>
            </a:p>
          </p:txBody>
        </p:sp>
        <p:sp>
          <p:nvSpPr>
            <p:cNvPr id="97" name="_s11273"/>
            <p:cNvSpPr/>
            <p:nvPr/>
          </p:nvSpPr>
          <p:spPr>
            <a:xfrm flipV="1">
              <a:off x="2590200" y="5158080"/>
              <a:ext cx="3810240" cy="1007640"/>
            </a:xfrm>
            <a:custGeom>
              <a:avLst/>
              <a:gdLst>
                <a:gd name="textAreaLeft" fmla="*/ 573120 w 3810240"/>
                <a:gd name="textAreaRight" fmla="*/ 3237120 w 3810240"/>
                <a:gd name="textAreaTop" fmla="*/ 151560 h 1007640"/>
                <a:gd name="textAreaBottom" fmla="*/ 856080 h 10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e9e3b7"/>
            </a:solidFill>
            <a:ln w="468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1500" spc="-1" strike="noStrike">
                  <a:solidFill>
                    <a:srgbClr val="cc9900"/>
                  </a:solidFill>
                  <a:latin typeface="Arial"/>
                </a:rPr>
                <a:t>Facts</a:t>
              </a:r>
              <a:endParaRPr b="0" lang="en-US" sz="1500" spc="-1" strike="noStrike">
                <a:solidFill>
                  <a:srgbClr val="cc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500" spc="-1" strike="noStrike">
                  <a:solidFill>
                    <a:srgbClr val="cc9900"/>
                  </a:solidFill>
                  <a:latin typeface="Arial"/>
                </a:rPr>
                <a:t>-truths about specific events, objects, people, </a:t>
              </a:r>
              <a:endParaRPr b="0" lang="en-US" sz="1500" spc="-1" strike="noStrike">
                <a:solidFill>
                  <a:srgbClr val="cc99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500" spc="-1" strike="noStrike">
                  <a:solidFill>
                    <a:srgbClr val="cc9900"/>
                  </a:solidFill>
                  <a:latin typeface="Arial"/>
                </a:rPr>
                <a:t>(these are easily investigated)</a:t>
              </a:r>
              <a:endParaRPr b="0" lang="en-US" sz="1500" spc="-1" strike="noStrike">
                <a:solidFill>
                  <a:srgbClr val="cc99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5791320" y="1828800"/>
            <a:ext cx="1008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5000" spc="-1" strike="noStrike">
                <a:solidFill>
                  <a:srgbClr val="cc9900"/>
                </a:solidFill>
                <a:latin typeface="Arial"/>
              </a:rPr>
              <a:t>}</a:t>
            </a:r>
            <a:r>
              <a:rPr b="0" lang="en-NZ" sz="4000" spc="-1" strike="noStrike">
                <a:solidFill>
                  <a:srgbClr val="cc99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29400" y="2971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cc9900"/>
                </a:solidFill>
                <a:latin typeface="Arial"/>
              </a:rPr>
              <a:t>Big Ideas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Strategies and Skills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9900"/>
                </a:solidFill>
                <a:uFillTx/>
                <a:latin typeface="Comic Sans MS"/>
              </a:rPr>
              <a:t>Strategies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Comic Sans MS"/>
              </a:rPr>
              <a:t>Ways of introducing or organizing a set of skills e.g. six hats, Multiple intelligences, Bloom’s etc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9900"/>
                </a:solidFill>
                <a:uFillTx/>
                <a:latin typeface="Comic Sans MS"/>
              </a:rPr>
              <a:t>Skills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00"/>
                </a:solidFill>
                <a:latin typeface="Comic Sans MS"/>
              </a:rPr>
              <a:t>Are what we want the children to be able to do e.g. thinking, questioning, researching etc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9cf"/>
                </a:solidFill>
                <a:latin typeface="Comic Sans MS"/>
              </a:rPr>
              <a:t>Focus on introducing only one new set of skills or one strategy in each Inquiry so you can ensure it is embedded and understood fully!</a:t>
            </a:r>
            <a:endParaRPr b="0" lang="en-US" sz="28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Key Competencies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78483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Comic Sans MS"/>
              </a:rPr>
              <a:t>Only develop these when you are ready!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Comic Sans MS"/>
              </a:rPr>
              <a:t>Pick one competency that ‘fits’ with your Inquiry and focus on how you could teach, observe and record your findings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9900"/>
                </a:solidFill>
                <a:latin typeface="Comic Sans MS"/>
              </a:rPr>
              <a:t>With a partner plan this on your Pre-Planning Sheets – for your inquiry.</a:t>
            </a:r>
            <a:endParaRPr b="0" lang="en-US" sz="32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867960"/>
            <a:ext cx="792468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00"/>
                </a:solidFill>
                <a:latin typeface="Comic Sans MS"/>
              </a:rPr>
              <a:t>Values</a:t>
            </a:r>
            <a:endParaRPr b="0" lang="en-US" sz="4000" spc="-1" strike="noStrike">
              <a:solidFill>
                <a:srgbClr val="9966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49528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NZ Curriculum Values are: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Excellence       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Innovation, Inquiry and curiosity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Diversity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Equity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Community and participation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Ecological sustainability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Integrity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9900"/>
                </a:solidFill>
                <a:latin typeface="Arial"/>
              </a:rPr>
              <a:t>Respect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91320" y="2286000"/>
            <a:ext cx="29718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cf"/>
                </a:solidFill>
                <a:latin typeface="Comic Sans MS"/>
              </a:rPr>
              <a:t>Consider: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9c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cf"/>
                </a:solidFill>
                <a:latin typeface="Comic Sans MS"/>
              </a:rPr>
              <a:t>What values might we include?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9c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cf"/>
                </a:solidFill>
                <a:latin typeface="Comic Sans MS"/>
              </a:rPr>
              <a:t>What values might be challenged during this inquiry?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9c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9c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9cf"/>
                </a:solidFill>
                <a:latin typeface="Comic Sans MS"/>
              </a:rPr>
              <a:t>What value will we focus on?</a:t>
            </a: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99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2:30:23Z</dcterms:created>
  <dc:creator>Bronwyn Fennessy</dc:creator>
  <dc:description/>
  <dc:language>en-US</dc:language>
  <cp:lastModifiedBy>Bronwyn Fennessy</cp:lastModifiedBy>
  <dcterms:modified xsi:type="dcterms:W3CDTF">2008-04-03T22:48:47Z</dcterms:modified>
  <cp:revision>2</cp:revision>
  <dc:subject/>
  <dc:title>Inquiry Basics</dc:title>
</cp:coreProperties>
</file>